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B95A-D327-4C99-9F10-C234B0727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F12-7B51-41EC-8271-CE361016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53D3-43E1-4E54-AFA8-E5B772CAF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5E1-7A7D-4264-BC85-C0E33C626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9CCF-D1CB-437B-A821-6F3318CAE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C247-1B85-4998-BD59-B1F2B049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CFC7-DE1A-462E-96F4-4B1DF2572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3450-F7EE-4BF9-A794-CA250C54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A19-175C-4755-8E97-E5437FC6F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48F7-D586-478D-BB5E-39921B11C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0F22-DFF1-4D5E-953A-A1CFBC631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C505-E8B4-4CC1-8C6E-8BA26104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B7FB2-D176-4CEB-A9E6-2B4F5C39DF5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Title 1" descr=""/>
          <p:cNvPicPr/>
          <p:nvPr/>
        </p:nvPicPr>
        <p:blipFill>
          <a:blip r:embed="rId1"/>
          <a:stretch/>
        </p:blipFill>
        <p:spPr>
          <a:xfrm>
            <a:off x="633240" y="2127240"/>
            <a:ext cx="7828200" cy="1579680"/>
          </a:xfrm>
          <a:prstGeom prst="rect">
            <a:avLst/>
          </a:prstGeom>
          <a:ln w="0">
            <a:noFill/>
          </a:ln>
        </p:spPr>
      </p:pic>
      <p:pic>
        <p:nvPicPr>
          <p:cNvPr id="42" name="Subtitle 2" descr=""/>
          <p:cNvPicPr/>
          <p:nvPr/>
        </p:nvPicPr>
        <p:blipFill>
          <a:blip r:embed="rId2"/>
          <a:stretch/>
        </p:blipFill>
        <p:spPr>
          <a:xfrm>
            <a:off x="1322280" y="3790800"/>
            <a:ext cx="649944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 mamá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leyó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un libro buen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¿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Oyer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Uds. las noticia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icia y Roberto 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reyer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que la tortilla española es sabros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cuerda…Para usar el pretérito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e use the preterit to talk about events that were completed in the past.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re is a definite start and ending of the acti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e narration of events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Q: What did you eat today? 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: I ate a banan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5680080" y="3745080"/>
            <a:ext cx="2552760" cy="24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2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gular –ar verb ending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2354400"/>
          <a:ext cx="8229600" cy="37796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12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é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e7d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m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e7dfeb"/>
                    </a:solidFill>
                  </a:tcPr>
                </a:tc>
              </a:tr>
              <a:tr h="124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ste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125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abl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  <p:sp>
        <p:nvSpPr>
          <p:cNvPr id="48" name="TextBox 5"/>
          <p:cNvSpPr/>
          <p:nvPr/>
        </p:nvSpPr>
        <p:spPr>
          <a:xfrm>
            <a:off x="3330720" y="1765440"/>
            <a:ext cx="308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Hablar =         To talk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gular –er/-ir ending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¡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Buena noticia! –er/-ir verbs share preterit endings!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960480" y="2230560"/>
          <a:ext cx="6969240" cy="4151160"/>
        </p:xfrm>
        <a:graphic>
          <a:graphicData uri="http://schemas.openxmlformats.org/drawingml/2006/table">
            <a:tbl>
              <a:tblPr/>
              <a:tblGrid>
                <a:gridCol w="3546360"/>
                <a:gridCol w="3422880"/>
              </a:tblGrid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v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f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m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v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mo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7dfeb"/>
                    </a:solidFill>
                  </a:tcPr>
                </a:tc>
              </a:tr>
              <a:tr h="145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v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st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ste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v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stei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cdd3"/>
                    </a:solidFill>
                  </a:tcPr>
                </a:tc>
              </a:tr>
              <a:tr h="13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v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ó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er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v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ero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8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¡Ojo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ar and –er verbs that stem change in the present tense do NOT have a stem change in the preteri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However, -ir verbs stem change in the preteri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-ir verbs only change in the s.p.o.t. and p.p.o.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áctica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ta mañana, yo ________ (comer) yogur y _________ (beber) café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yer, mis padres me _________ (escribir) un correo electróni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oche mis amigos y yo _______ (salir) para la fiesta a las ocho y medi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¿ _________ (aprender) tú las formas del pretérito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Respuestas…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Esta mañana, y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omí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yogur y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ebí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café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yer, mis padres me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escribieron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un correo electrónic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noche mis amigos y yo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alimos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para la fiesta a las ocho y medi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¿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prendiste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tú las formas del pretérito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Una cosa más…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erbs with a stem that end in a VOWEL, have a spelling chang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hange the í to a y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s only occurs in the S.P.O.T. and P.P.O.T. form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alibri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trange things happen in the basement!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Práctica…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i mamá ______________ (leer) un libro bueno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¿_____________ (oír) Uds. las noticia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licia y Roberto ____________ (creer) que la tortilla española es sabrosa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4:20:43Z</dcterms:created>
  <dc:creator>localadmin</dc:creator>
  <dc:description/>
  <dc:language>en-US</dc:language>
  <cp:lastModifiedBy>Prine, Stephanie</cp:lastModifiedBy>
  <dcterms:modified xsi:type="dcterms:W3CDTF">2012-12-17T13:42:17Z</dcterms:modified>
  <cp:revision>9</cp:revision>
  <dc:subject/>
  <dc:title>El pretérito</dc:title>
</cp:coreProperties>
</file>